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4BD-59AE-4548-B2A5-AA2DFFD4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2BF-9830-41CA-AD07-DAD37FE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C9A-3D1A-4672-A2A7-0F35A8A1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B62-6A64-4468-98EB-25432659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E53-D3AB-44BE-9D6D-1FD4B7D8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391-01D2-4F0A-BFD5-1B2A75A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B58-F43C-4B9A-9D37-81E503C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C72-7565-42AE-8419-E60D7D1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FD2-2C6B-4F47-B049-F2AC3C9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B66-D563-4FA0-B946-F88BAF0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117-0000-413B-AB20-5A796B4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46D-F919-4BD2-86CB-2CF8D71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C37-F050-4CA9-8E30-39B1349B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79400" y="1073160"/>
            <a:ext cx="2857320" cy="44280"/>
            <a:chOff x="3479400" y="1073160"/>
            <a:chExt cx="2857320" cy="44280"/>
          </a:xfrm>
        </p:grpSpPr>
        <p:grpSp>
          <p:nvGrpSpPr>
            <p:cNvPr id="42" name=""/>
            <p:cNvGrpSpPr/>
            <p:nvPr/>
          </p:nvGrpSpPr>
          <p:grpSpPr>
            <a:xfrm>
              <a:off x="3479400" y="1073160"/>
              <a:ext cx="578880" cy="44280"/>
              <a:chOff x="3479400" y="1073160"/>
              <a:chExt cx="578880" cy="44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479400" y="1073160"/>
                <a:ext cx="325800" cy="44280"/>
                <a:chOff x="3479400" y="1073160"/>
                <a:chExt cx="325800" cy="44280"/>
              </a:xfrm>
            </p:grpSpPr>
            <p:sp>
              <p:nvSpPr>
                <p:cNvPr id="44" name=""/>
                <p:cNvSpPr/>
                <p:nvPr/>
              </p:nvSpPr>
              <p:spPr>
                <a:xfrm flipH="1">
                  <a:off x="3479040" y="1073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flipH="1">
                  <a:off x="3731760" y="107316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01000" y="1095120"/>
                  <a:ext cx="299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732480" y="1073160"/>
                <a:ext cx="325800" cy="44280"/>
                <a:chOff x="3732480" y="1073160"/>
                <a:chExt cx="325800" cy="44280"/>
              </a:xfrm>
            </p:grpSpPr>
            <p:sp>
              <p:nvSpPr>
                <p:cNvPr id="48" name=""/>
                <p:cNvSpPr/>
                <p:nvPr/>
              </p:nvSpPr>
              <p:spPr>
                <a:xfrm flipH="1">
                  <a:off x="3732120" y="1073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3984840" y="107316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754080" y="1095120"/>
                  <a:ext cx="299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" name=""/>
            <p:cNvGrpSpPr/>
            <p:nvPr/>
          </p:nvGrpSpPr>
          <p:grpSpPr>
            <a:xfrm>
              <a:off x="3985560" y="1073160"/>
              <a:ext cx="326880" cy="44280"/>
              <a:chOff x="3985560" y="1073160"/>
              <a:chExt cx="326880" cy="4428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398520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23900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00716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38280" y="1073160"/>
              <a:ext cx="326880" cy="44280"/>
              <a:chOff x="4238280" y="1073160"/>
              <a:chExt cx="326880" cy="442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23792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449172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25988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491720" y="1073160"/>
              <a:ext cx="326880" cy="44280"/>
              <a:chOff x="4491720" y="1073160"/>
              <a:chExt cx="326880" cy="44280"/>
            </a:xfrm>
          </p:grpSpPr>
          <p:sp>
            <p:nvSpPr>
              <p:cNvPr id="60" name=""/>
              <p:cNvSpPr/>
              <p:nvPr/>
            </p:nvSpPr>
            <p:spPr>
              <a:xfrm flipH="1">
                <a:off x="449136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74516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1332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744440" y="1073160"/>
              <a:ext cx="326880" cy="44280"/>
              <a:chOff x="4744440" y="1073160"/>
              <a:chExt cx="326880" cy="44280"/>
            </a:xfrm>
          </p:grpSpPr>
          <p:sp>
            <p:nvSpPr>
              <p:cNvPr id="64" name=""/>
              <p:cNvSpPr/>
              <p:nvPr/>
            </p:nvSpPr>
            <p:spPr>
              <a:xfrm flipH="1">
                <a:off x="474408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99788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6604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997160" y="1073160"/>
              <a:ext cx="326880" cy="44280"/>
              <a:chOff x="4997160" y="1073160"/>
              <a:chExt cx="326880" cy="44280"/>
            </a:xfrm>
          </p:grpSpPr>
          <p:sp>
            <p:nvSpPr>
              <p:cNvPr id="68" name=""/>
              <p:cNvSpPr/>
              <p:nvPr/>
            </p:nvSpPr>
            <p:spPr>
              <a:xfrm flipH="1">
                <a:off x="499680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525060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876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250600" y="1073160"/>
              <a:ext cx="326880" cy="44280"/>
              <a:chOff x="5250600" y="1073160"/>
              <a:chExt cx="326880" cy="44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525024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50404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7220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503680" y="1073160"/>
              <a:ext cx="326880" cy="44280"/>
              <a:chOff x="5503680" y="1073160"/>
              <a:chExt cx="326880" cy="4428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550332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575712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52528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756400" y="1073160"/>
              <a:ext cx="326880" cy="44280"/>
              <a:chOff x="5756400" y="1073160"/>
              <a:chExt cx="326880" cy="4428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575604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00984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7800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009840" y="1073160"/>
              <a:ext cx="326880" cy="44280"/>
              <a:chOff x="6009840" y="1073160"/>
              <a:chExt cx="326880" cy="442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009480" y="107316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263280" y="107316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31440" y="109512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3471480" y="1560600"/>
            <a:ext cx="1084320" cy="44280"/>
            <a:chOff x="3471480" y="1560600"/>
            <a:chExt cx="1084320" cy="44280"/>
          </a:xfrm>
        </p:grpSpPr>
        <p:grpSp>
          <p:nvGrpSpPr>
            <p:cNvPr id="88" name=""/>
            <p:cNvGrpSpPr/>
            <p:nvPr/>
          </p:nvGrpSpPr>
          <p:grpSpPr>
            <a:xfrm>
              <a:off x="3471480" y="1560600"/>
              <a:ext cx="325800" cy="44280"/>
              <a:chOff x="3471480" y="1560600"/>
              <a:chExt cx="325800" cy="4428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3471120" y="156060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723840" y="156060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93080" y="1582560"/>
                <a:ext cx="29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3723840" y="1560600"/>
              <a:ext cx="325800" cy="44280"/>
              <a:chOff x="3723840" y="1560600"/>
              <a:chExt cx="325800" cy="4428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3723480" y="156060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976200" y="156060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45440" y="1582560"/>
                <a:ext cx="29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976560" y="1560600"/>
              <a:ext cx="325800" cy="44280"/>
              <a:chOff x="3976560" y="1560600"/>
              <a:chExt cx="325800" cy="4428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3976200" y="156060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4228920" y="156060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98160" y="1582560"/>
                <a:ext cx="29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230000" y="1560600"/>
              <a:ext cx="325800" cy="44280"/>
              <a:chOff x="4230000" y="1560600"/>
              <a:chExt cx="325800" cy="4428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4229640" y="156060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4482360" y="156060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51600" y="1582560"/>
                <a:ext cx="29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3463560" y="2195640"/>
            <a:ext cx="2097720" cy="44280"/>
            <a:chOff x="3463560" y="2195640"/>
            <a:chExt cx="2097720" cy="44280"/>
          </a:xfrm>
        </p:grpSpPr>
        <p:grpSp>
          <p:nvGrpSpPr>
            <p:cNvPr id="105" name=""/>
            <p:cNvGrpSpPr/>
            <p:nvPr/>
          </p:nvGrpSpPr>
          <p:grpSpPr>
            <a:xfrm>
              <a:off x="3463560" y="2195640"/>
              <a:ext cx="1085760" cy="44280"/>
              <a:chOff x="3463560" y="2195640"/>
              <a:chExt cx="1085760" cy="442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463560" y="2195640"/>
                <a:ext cx="326880" cy="44280"/>
                <a:chOff x="3463560" y="2195640"/>
                <a:chExt cx="326880" cy="442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346320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371700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48516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716280" y="2195640"/>
                <a:ext cx="326880" cy="44280"/>
                <a:chOff x="3716280" y="2195640"/>
                <a:chExt cx="326880" cy="44280"/>
              </a:xfrm>
            </p:grpSpPr>
            <p:sp>
              <p:nvSpPr>
                <p:cNvPr id="111" name=""/>
                <p:cNvSpPr/>
                <p:nvPr/>
              </p:nvSpPr>
              <p:spPr>
                <a:xfrm flipH="1">
                  <a:off x="371592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96972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3788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969000" y="2195640"/>
                <a:ext cx="326880" cy="44280"/>
                <a:chOff x="3969000" y="2195640"/>
                <a:chExt cx="326880" cy="44280"/>
              </a:xfrm>
            </p:grpSpPr>
            <p:sp>
              <p:nvSpPr>
                <p:cNvPr id="115" name=""/>
                <p:cNvSpPr/>
                <p:nvPr/>
              </p:nvSpPr>
              <p:spPr>
                <a:xfrm flipH="1">
                  <a:off x="396864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422244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9060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22440" y="2195640"/>
                <a:ext cx="326880" cy="44280"/>
                <a:chOff x="4222440" y="2195640"/>
                <a:chExt cx="326880" cy="4428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422208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447588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24404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4475520" y="2195640"/>
              <a:ext cx="1085760" cy="44280"/>
              <a:chOff x="4475520" y="2195640"/>
              <a:chExt cx="1085760" cy="442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4475520" y="2195640"/>
                <a:ext cx="326880" cy="44280"/>
                <a:chOff x="4475520" y="2195640"/>
                <a:chExt cx="326880" cy="442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447516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472896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49712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728240" y="2195640"/>
                <a:ext cx="326880" cy="44280"/>
                <a:chOff x="4728240" y="2195640"/>
                <a:chExt cx="326880" cy="44280"/>
              </a:xfrm>
            </p:grpSpPr>
            <p:sp>
              <p:nvSpPr>
                <p:cNvPr id="128" name=""/>
                <p:cNvSpPr/>
                <p:nvPr/>
              </p:nvSpPr>
              <p:spPr>
                <a:xfrm flipH="1">
                  <a:off x="472788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98168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4984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80960" y="2195640"/>
                <a:ext cx="326880" cy="44280"/>
                <a:chOff x="4980960" y="2195640"/>
                <a:chExt cx="326880" cy="442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498060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523440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256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234400" y="2195640"/>
                <a:ext cx="326880" cy="44280"/>
                <a:chOff x="5234400" y="2195640"/>
                <a:chExt cx="326880" cy="4428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5234040" y="21956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5487840" y="219564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56000" y="221760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" name=""/>
          <p:cNvGrpSpPr/>
          <p:nvPr/>
        </p:nvGrpSpPr>
        <p:grpSpPr>
          <a:xfrm>
            <a:off x="3484080" y="2830680"/>
            <a:ext cx="580320" cy="44280"/>
            <a:chOff x="3484080" y="2830680"/>
            <a:chExt cx="580320" cy="44280"/>
          </a:xfrm>
        </p:grpSpPr>
        <p:grpSp>
          <p:nvGrpSpPr>
            <p:cNvPr id="140" name=""/>
            <p:cNvGrpSpPr/>
            <p:nvPr/>
          </p:nvGrpSpPr>
          <p:grpSpPr>
            <a:xfrm>
              <a:off x="3484080" y="2830680"/>
              <a:ext cx="326880" cy="44280"/>
              <a:chOff x="3484080" y="2830680"/>
              <a:chExt cx="326880" cy="4428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3483720" y="283068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737520" y="283068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05680" y="285264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37520" y="2830680"/>
              <a:ext cx="326880" cy="44280"/>
              <a:chOff x="3737520" y="2830680"/>
              <a:chExt cx="326880" cy="4428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37160" y="283068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990960" y="283068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59120" y="285264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487320" y="3467160"/>
            <a:ext cx="2097720" cy="44280"/>
            <a:chOff x="3487320" y="3467160"/>
            <a:chExt cx="2097720" cy="44280"/>
          </a:xfrm>
        </p:grpSpPr>
        <p:grpSp>
          <p:nvGrpSpPr>
            <p:cNvPr id="149" name=""/>
            <p:cNvGrpSpPr/>
            <p:nvPr/>
          </p:nvGrpSpPr>
          <p:grpSpPr>
            <a:xfrm>
              <a:off x="3487320" y="3467160"/>
              <a:ext cx="1085760" cy="44280"/>
              <a:chOff x="3487320" y="3467160"/>
              <a:chExt cx="1085760" cy="4428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487320" y="3467160"/>
                <a:ext cx="326880" cy="44280"/>
                <a:chOff x="3487320" y="3467160"/>
                <a:chExt cx="326880" cy="4428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348696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374076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0892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740040" y="3467160"/>
                <a:ext cx="326880" cy="44280"/>
                <a:chOff x="3740040" y="3467160"/>
                <a:chExt cx="326880" cy="44280"/>
              </a:xfrm>
            </p:grpSpPr>
            <p:sp>
              <p:nvSpPr>
                <p:cNvPr id="155" name=""/>
                <p:cNvSpPr/>
                <p:nvPr/>
              </p:nvSpPr>
              <p:spPr>
                <a:xfrm flipH="1">
                  <a:off x="373968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399348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76164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992760" y="3467160"/>
                <a:ext cx="326880" cy="44280"/>
                <a:chOff x="3992760" y="3467160"/>
                <a:chExt cx="326880" cy="4428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99240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424620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1436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246200" y="3467160"/>
                <a:ext cx="326880" cy="44280"/>
                <a:chOff x="4246200" y="3467160"/>
                <a:chExt cx="326880" cy="4428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424584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449964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80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4499280" y="3467160"/>
              <a:ext cx="1085760" cy="44280"/>
              <a:chOff x="4499280" y="3467160"/>
              <a:chExt cx="1085760" cy="442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4499280" y="3467160"/>
                <a:ext cx="326880" cy="44280"/>
                <a:chOff x="4499280" y="3467160"/>
                <a:chExt cx="326880" cy="4428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449892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475272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2088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752000" y="3467160"/>
                <a:ext cx="326880" cy="44280"/>
                <a:chOff x="4752000" y="3467160"/>
                <a:chExt cx="326880" cy="442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475164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500544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77360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004720" y="3467160"/>
                <a:ext cx="326880" cy="44280"/>
                <a:chOff x="5004720" y="3467160"/>
                <a:chExt cx="326880" cy="44280"/>
              </a:xfrm>
            </p:grpSpPr>
            <p:sp>
              <p:nvSpPr>
                <p:cNvPr id="176" name=""/>
                <p:cNvSpPr/>
                <p:nvPr/>
              </p:nvSpPr>
              <p:spPr>
                <a:xfrm flipH="1">
                  <a:off x="500436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25816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2632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258160" y="3467160"/>
                <a:ext cx="326880" cy="44280"/>
                <a:chOff x="5258160" y="3467160"/>
                <a:chExt cx="326880" cy="44280"/>
              </a:xfrm>
            </p:grpSpPr>
            <p:sp>
              <p:nvSpPr>
                <p:cNvPr id="180" name=""/>
                <p:cNvSpPr/>
                <p:nvPr/>
              </p:nvSpPr>
              <p:spPr>
                <a:xfrm flipH="1">
                  <a:off x="5257800" y="346716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5511600" y="3467160"/>
                  <a:ext cx="7344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279760" y="3489120"/>
                  <a:ext cx="29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3" name=""/>
          <p:cNvGrpSpPr/>
          <p:nvPr/>
        </p:nvGrpSpPr>
        <p:grpSpPr>
          <a:xfrm>
            <a:off x="3484080" y="4102200"/>
            <a:ext cx="327240" cy="44280"/>
            <a:chOff x="3484080" y="4102200"/>
            <a:chExt cx="327240" cy="44280"/>
          </a:xfrm>
        </p:grpSpPr>
        <p:sp>
          <p:nvSpPr>
            <p:cNvPr id="184" name=""/>
            <p:cNvSpPr/>
            <p:nvPr/>
          </p:nvSpPr>
          <p:spPr>
            <a:xfrm flipH="1">
              <a:off x="3483720" y="4102200"/>
              <a:ext cx="73800" cy="4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37880" y="4102200"/>
              <a:ext cx="73440" cy="44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5680" y="4124160"/>
              <a:ext cx="2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87320" y="4737240"/>
            <a:ext cx="2098080" cy="44280"/>
            <a:chOff x="3487320" y="4737240"/>
            <a:chExt cx="2098080" cy="44280"/>
          </a:xfrm>
        </p:grpSpPr>
        <p:grpSp>
          <p:nvGrpSpPr>
            <p:cNvPr id="188" name=""/>
            <p:cNvGrpSpPr/>
            <p:nvPr/>
          </p:nvGrpSpPr>
          <p:grpSpPr>
            <a:xfrm>
              <a:off x="3487320" y="4737240"/>
              <a:ext cx="578160" cy="44280"/>
              <a:chOff x="3487320" y="4737240"/>
              <a:chExt cx="578160" cy="4428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487320" y="4737240"/>
                <a:ext cx="325440" cy="44280"/>
                <a:chOff x="3487320" y="4737240"/>
                <a:chExt cx="325440" cy="4428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3486960" y="47372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3739320" y="473724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508920" y="4759200"/>
                  <a:ext cx="29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740040" y="4737240"/>
                <a:ext cx="325440" cy="44280"/>
                <a:chOff x="3740040" y="4737240"/>
                <a:chExt cx="325440" cy="4428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3739680" y="473724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3992040" y="473724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61640" y="4759200"/>
                  <a:ext cx="29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3993120" y="4737240"/>
              <a:ext cx="326880" cy="44280"/>
              <a:chOff x="3993120" y="4737240"/>
              <a:chExt cx="326880" cy="44280"/>
            </a:xfrm>
          </p:grpSpPr>
          <p:sp>
            <p:nvSpPr>
              <p:cNvPr id="198" name=""/>
              <p:cNvSpPr/>
              <p:nvPr/>
            </p:nvSpPr>
            <p:spPr>
              <a:xfrm flipH="1">
                <a:off x="399276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246560" y="473724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14720" y="475920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246560" y="4737240"/>
              <a:ext cx="325440" cy="44280"/>
              <a:chOff x="4246560" y="4737240"/>
              <a:chExt cx="325440" cy="4428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424620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498560" y="473724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68160" y="4759200"/>
                <a:ext cx="29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499280" y="4737240"/>
              <a:ext cx="326880" cy="44280"/>
              <a:chOff x="4499280" y="4737240"/>
              <a:chExt cx="326880" cy="442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449892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4752720" y="473724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20880" y="475920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752360" y="4737240"/>
              <a:ext cx="326880" cy="44280"/>
              <a:chOff x="4752360" y="4737240"/>
              <a:chExt cx="326880" cy="4428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475200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005800" y="473724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73960" y="475920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005800" y="4737240"/>
              <a:ext cx="325440" cy="44280"/>
              <a:chOff x="5005800" y="4737240"/>
              <a:chExt cx="325440" cy="442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500544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257800" y="473724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7400" y="4759200"/>
                <a:ext cx="29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258520" y="4737240"/>
              <a:ext cx="326880" cy="44280"/>
              <a:chOff x="5258520" y="4737240"/>
              <a:chExt cx="326880" cy="4428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5258160" y="473724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511960" y="473724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80120" y="475920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3511080" y="5373720"/>
            <a:ext cx="2098080" cy="44280"/>
            <a:chOff x="3511080" y="5373720"/>
            <a:chExt cx="2098080" cy="44280"/>
          </a:xfrm>
        </p:grpSpPr>
        <p:grpSp>
          <p:nvGrpSpPr>
            <p:cNvPr id="222" name=""/>
            <p:cNvGrpSpPr/>
            <p:nvPr/>
          </p:nvGrpSpPr>
          <p:grpSpPr>
            <a:xfrm>
              <a:off x="3511080" y="5373720"/>
              <a:ext cx="578160" cy="44280"/>
              <a:chOff x="3511080" y="5373720"/>
              <a:chExt cx="578160" cy="44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511080" y="5373720"/>
                <a:ext cx="325440" cy="44280"/>
                <a:chOff x="3511080" y="5373720"/>
                <a:chExt cx="325440" cy="44280"/>
              </a:xfrm>
            </p:grpSpPr>
            <p:sp>
              <p:nvSpPr>
                <p:cNvPr id="224" name=""/>
                <p:cNvSpPr/>
                <p:nvPr/>
              </p:nvSpPr>
              <p:spPr>
                <a:xfrm flipH="1">
                  <a:off x="3510720" y="537372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3763080" y="537372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32680" y="5395680"/>
                  <a:ext cx="29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763800" y="5373720"/>
                <a:ext cx="325440" cy="44280"/>
                <a:chOff x="3763800" y="5373720"/>
                <a:chExt cx="325440" cy="44280"/>
              </a:xfrm>
            </p:grpSpPr>
            <p:sp>
              <p:nvSpPr>
                <p:cNvPr id="228" name=""/>
                <p:cNvSpPr/>
                <p:nvPr/>
              </p:nvSpPr>
              <p:spPr>
                <a:xfrm flipH="1">
                  <a:off x="3763440" y="5373720"/>
                  <a:ext cx="7380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4015800" y="5373720"/>
                  <a:ext cx="73080" cy="44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85400" y="5395680"/>
                  <a:ext cx="298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4016880" y="5373720"/>
              <a:ext cx="326880" cy="44280"/>
              <a:chOff x="4016880" y="5373720"/>
              <a:chExt cx="326880" cy="4428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401652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270320" y="537372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038480" y="539568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270320" y="5373720"/>
              <a:ext cx="325440" cy="44280"/>
              <a:chOff x="4270320" y="5373720"/>
              <a:chExt cx="325440" cy="4428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426996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522320" y="537372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91920" y="5395680"/>
                <a:ext cx="29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4523040" y="5373720"/>
              <a:ext cx="326880" cy="44280"/>
              <a:chOff x="4523040" y="5373720"/>
              <a:chExt cx="326880" cy="4428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452268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776480" y="537372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44640" y="539568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776120" y="5373720"/>
              <a:ext cx="326880" cy="44280"/>
              <a:chOff x="4776120" y="5373720"/>
              <a:chExt cx="326880" cy="4428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477576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029560" y="537372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97720" y="539568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029560" y="5373720"/>
              <a:ext cx="325440" cy="44280"/>
              <a:chOff x="5029560" y="5373720"/>
              <a:chExt cx="325440" cy="44280"/>
            </a:xfrm>
          </p:grpSpPr>
          <p:sp>
            <p:nvSpPr>
              <p:cNvPr id="248" name=""/>
              <p:cNvSpPr/>
              <p:nvPr/>
            </p:nvSpPr>
            <p:spPr>
              <a:xfrm flipH="1">
                <a:off x="502920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5281560" y="5373720"/>
                <a:ext cx="7308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051160" y="5395680"/>
                <a:ext cx="29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282280" y="5373720"/>
              <a:ext cx="326880" cy="44280"/>
              <a:chOff x="5282280" y="5373720"/>
              <a:chExt cx="326880" cy="44280"/>
            </a:xfrm>
          </p:grpSpPr>
          <p:sp>
            <p:nvSpPr>
              <p:cNvPr id="252" name=""/>
              <p:cNvSpPr/>
              <p:nvPr/>
            </p:nvSpPr>
            <p:spPr>
              <a:xfrm flipH="1">
                <a:off x="5281920" y="5373720"/>
                <a:ext cx="7380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535720" y="5373720"/>
                <a:ext cx="73440" cy="44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03880" y="5395680"/>
                <a:ext cx="29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2952720" y="861840"/>
            <a:ext cx="4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81720" y="90000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20800" y="134136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00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28920" y="1271520"/>
                <a:ext cx="216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620800" y="198288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20800" y="262404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0800" y="326700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0800" y="390852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0" y="4549680"/>
            <a:ext cx="7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54280" y="5192640"/>
            <a:ext cx="7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422440" y="1914480"/>
                <a:ext cx="228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500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28920" y="2554200"/>
                <a:ext cx="216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495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422440" y="3197160"/>
                <a:ext cx="228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462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71680" y="4476600"/>
                <a:ext cx="330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4625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71680" y="3836880"/>
                <a:ext cx="3301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4457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65200" y="5116680"/>
                <a:ext cx="343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981160" y="5869080"/>
                <a:ext cx="228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0520" y="5869080"/>
                <a:ext cx="228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597560" y="5869080"/>
                <a:ext cx="330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533920" y="5869080"/>
                <a:ext cx="343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267000" y="59342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92480" y="5969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13360" y="59180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237960"/>
            <a:ext cx="2819520" cy="716040"/>
            <a:chOff x="3484440" y="237960"/>
            <a:chExt cx="2819520" cy="716040"/>
          </a:xfrm>
        </p:grpSpPr>
        <p:sp>
          <p:nvSpPr>
            <p:cNvPr id="286" name=""/>
            <p:cNvSpPr/>
            <p:nvPr/>
          </p:nvSpPr>
          <p:spPr>
            <a:xfrm rot="5400000">
              <a:off x="4825800" y="-523800"/>
              <a:ext cx="136440" cy="2819520"/>
            </a:xfrm>
            <a:custGeom>
              <a:avLst/>
              <a:gdLst>
                <a:gd name="textAreaLeft" fmla="*/ 87120 w 136440"/>
                <a:gd name="textAreaRight" fmla="*/ 136800 w 13644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38800" y="237960"/>
              <a:ext cx="93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6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4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8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2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4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2:48:14Z</dcterms:created>
  <dc:creator>Irina</dc:creator>
  <dc:description/>
  <dc:language>en-US</dc:language>
  <cp:lastModifiedBy>Zubareva</cp:lastModifiedBy>
  <dcterms:modified xsi:type="dcterms:W3CDTF">2007-07-01T19:55:32Z</dcterms:modified>
  <cp:revision>4</cp:revision>
  <dc:subject/>
  <dc:title>Презентация PowerPoint</dc:title>
</cp:coreProperties>
</file>